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27A-F672-4679-B5A8-9F36F5B15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2A9-831D-4898-B476-227357D8C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7E7-6639-44A1-B433-55CA39EB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40A-1248-4F28-B932-9F4992B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758-1079-41DE-A950-2438F4A6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C82-FFBD-462B-A465-C29F0A64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6C6-0EC6-466A-BCFD-F0EE1293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FDD-6F0F-427F-8101-5A6C9DD9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2E8-719A-4704-A527-F85428A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30D-4AD9-4412-B234-9E56A4C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8A2-C37B-4CD6-BAC2-FFDA7EC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516-2CD0-4F22-A5CC-57989B6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A11-D98D-4EA4-B305-A31A265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79C-1583-4FF9-AD1A-3655539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4E3-A9B3-4FF0-BFDF-6FB84A70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Evaluating a Website:</a:t>
            </a:r>
            <a:br>
              <a:rPr sz="4000"/>
            </a:b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What websites are appropriate for your students to 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ff"/>
                </a:solidFill>
                <a:latin typeface="Comic Sans MS"/>
              </a:rPr>
              <a:t>Two Evaluation Sessions Provid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ff"/>
                </a:solidFill>
                <a:latin typeface="Comic Sans MS"/>
              </a:rPr>
              <a:t>Nicole Hesari &amp; Amy Klymk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(M.S. in Literacy Birth – Grade 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Please make sure that your laptop has working internet, and pull up Internet Explorer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After you have opened IE please go to: </a:t>
            </a:r>
            <a:r>
              <a:rPr b="0" lang="en-US" sz="2000" spc="-1" strike="noStrike" u="sng">
                <a:solidFill>
                  <a:srgbClr val="403152"/>
                </a:solidFill>
                <a:uFillTx/>
                <a:latin typeface="Comic Sans MS"/>
              </a:rPr>
              <a:t>http://zapatopi.net/treeoctop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Please use the graphic organizers at your station to fill out information on the Pacific Northwest Tree Octop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"/>
          <p:cNvSpPr/>
          <p:nvPr/>
        </p:nvSpPr>
        <p:spPr>
          <a:xfrm>
            <a:off x="2438280" y="3733920"/>
            <a:ext cx="365760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5"/>
          <p:cNvSpPr/>
          <p:nvPr/>
        </p:nvSpPr>
        <p:spPr>
          <a:xfrm>
            <a:off x="4191120" y="3733920"/>
            <a:ext cx="0" cy="27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8"/>
          <p:cNvSpPr/>
          <p:nvPr/>
        </p:nvSpPr>
        <p:spPr>
          <a:xfrm>
            <a:off x="2438280" y="5105520"/>
            <a:ext cx="3733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7524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Habit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152388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Why is it endanger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 flipH="1">
            <a:off x="5867280" y="3733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Places for additional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943600" y="5657760"/>
            <a:ext cx="1981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Also Known 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Calibri"/>
              </a:rPr>
              <a:t>(Scientific Name/Name is Foreign Languag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Continue on to other websites to fill in the next Idea Wheel on the Tree Octopus to support or disprove your fi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If you need help getting started, please visit </a:t>
            </a:r>
            <a:r>
              <a:rPr b="0" lang="en-US" sz="3200" spc="-1" strike="noStrike" u="sng">
                <a:solidFill>
                  <a:srgbClr val="403152"/>
                </a:solidFill>
                <a:uFillTx/>
                <a:latin typeface="Comic Sans MS"/>
              </a:rPr>
              <a:t>www.google.com</a:t>
            </a:r>
            <a:r>
              <a:rPr b="0" lang="en-US" sz="3200" spc="-1" strike="noStrike">
                <a:solidFill>
                  <a:srgbClr val="40315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o start your sea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Please break up into small grade level groups for discussion of your fin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Look for the information in your packet to proc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We will come around to assist your group as you move forward in exploring and evaluating websi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Was the website legitimate? How did you figure this 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Is this an activity that you can use with your students to improve their critical reading skil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Questions? Comment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Contact Information:</a:t>
            </a:r>
            <a:br>
              <a:rPr sz="2800"/>
            </a:br>
            <a:r>
              <a:rPr b="0" lang="en-US" sz="2800" spc="-1" strike="noStrike" u="sng">
                <a:solidFill>
                  <a:srgbClr val="002060"/>
                </a:solidFill>
                <a:uFillTx/>
                <a:latin typeface="Comic Sans MS"/>
              </a:rPr>
              <a:t>akklymko@syr.edu</a:t>
            </a:r>
            <a:br>
              <a:rPr sz="2800"/>
            </a:br>
            <a:r>
              <a:rPr b="0" lang="en-US" sz="2800" spc="-1" strike="noStrike" u="sng">
                <a:solidFill>
                  <a:srgbClr val="002060"/>
                </a:solidFill>
                <a:uFillTx/>
                <a:latin typeface="Comic Sans MS"/>
              </a:rPr>
              <a:t>nnhesari@syr.ed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240" y="380880"/>
            <a:ext cx="3048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his online life has become an entire strategy for how to live, survive, and thrive in the 21</a:t>
            </a:r>
            <a:r>
              <a:rPr b="0" lang="en-US" sz="3200" spc="-1" strike="noStrike" baseline="30000">
                <a:solidFill>
                  <a:srgbClr val="ffccff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century where cyberspace is a part of everyday life” (Richardson, 2010, p. 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ession Number On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4pm – 6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Goal: Introduce educators to navigating the web with thei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Five Evaluative Guidelines</a:t>
            </a:r>
            <a:br>
              <a:rPr sz="4400"/>
            </a:b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(from the </a:t>
            </a: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School of Journalism &amp; Library Sc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uthor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Who is responsible for the page? What are their qualifications and associations? Can you verify the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urren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dates clear when the website was first created and edit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overage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: What is the focus of the site? Are there clear headings to illustrate an outline of the content? Is the navigation within the website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Objectiv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biases clearly stated? Are affiliations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ccura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sources of information and factual data listed, and available for cross-check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Evaluation in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Let’s put our 5 criteria to use.  Please log on to </a:t>
            </a:r>
            <a:r>
              <a:rPr b="0" lang="en-US" sz="3200" spc="-1" strike="noStrike" u="sng">
                <a:solidFill>
                  <a:srgbClr val="403152"/>
                </a:solidFill>
                <a:uFillTx/>
                <a:latin typeface="Comic Sans MS"/>
              </a:rPr>
              <a:t>www.martinlutherkin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Use the Rubric in your packet to evaluate the website as we navigate throug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omic Sans MS"/>
              </a:rPr>
              <a:t>Conclusion: Is this a legitimate website for teaching about Martin Luther King Jr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Your mission now is to find an appropriate website on Martin Luther King Jr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First step: Log on to </a:t>
            </a:r>
            <a:r>
              <a:rPr b="0" lang="en-US" sz="2600" spc="-1" strike="noStrike" u="sng">
                <a:solidFill>
                  <a:srgbClr val="403152"/>
                </a:solidFill>
                <a:uFillTx/>
                <a:latin typeface="Comic Sans MS"/>
              </a:rPr>
              <a:t>www.google.com</a:t>
            </a: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 to find a better topic for teaching about K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Use the universal search terms  “Martin Luther King Jr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Evaluate the website that you find based on the rubric provided, as well as the five criter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ff"/>
                </a:solidFill>
                <a:latin typeface="Comic Sans MS"/>
              </a:rPr>
              <a:t>Quick Share: What website did you find? Was it a legitimate website? Why or why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Questions? Comment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See you tomorrow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419360" cy="10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ession Number Two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4pm – 6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he Pacific Northwest Tree Octopus &amp; 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Five Evaluative Guidelines</a:t>
            </a:r>
            <a:br>
              <a:rPr sz="4400"/>
            </a:b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(from the </a:t>
            </a: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School of Journalism &amp; Library Sc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uthor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Who is responsible for the page? What are their qualifications and associations? Can you verify the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urren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dates clear when the website was first created and edit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overage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: What is the focus of the site? Are there clear headings to illustrate an outline of the content? Is the navigation within the website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Objectiv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biases clearly stated? Are affiliations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ccura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sources of information and factual data listed, and available for cross-check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5:28:29Z</dcterms:created>
  <dc:creator>Amy</dc:creator>
  <dc:description/>
  <dc:language>en-US</dc:language>
  <cp:lastModifiedBy>Amy</cp:lastModifiedBy>
  <dcterms:modified xsi:type="dcterms:W3CDTF">2012-04-22T20:27:57Z</dcterms:modified>
  <cp:revision>30</cp:revision>
  <dc:subject/>
  <dc:title>Evaluating a Website</dc:title>
</cp:coreProperties>
</file>